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40B-3C4B-41DB-A7C9-FCA96131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DF4-2980-4D3E-83DB-E2E5016E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924-BF9A-4265-94DD-646DF65E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CCE-0953-412A-BDE2-1F4003FE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AD2A7-811B-4918-8845-4FF13B10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4165D-A9FD-4A22-8F29-4BD9173E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DC8B5-60C1-469B-B58E-F8F2303C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A94B0-BA09-4473-89BD-A374420B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21F81-3225-4697-86C9-0B1961C8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0363E-EDEE-424C-8C0D-02CBBD0D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29C07-E65E-4E3F-93DB-17CB165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431-6984-41CE-B749-634F2E59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894A3-9793-4E07-92DD-24B998B3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E08D8-5848-4F3D-B4C3-D754F6AD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A8D4F-490C-4B42-AD25-ED03B3E6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CFABD-78A6-4568-AEA3-7135AB3A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DE3B8-803B-4AAD-A117-33ADFA01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C4DB-4DF0-4FF5-B51C-6A372B96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EA4B-3365-4445-A7E8-BEA3121A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C63A-13F1-4E5C-8CDD-47C3B3AA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2CF4-C142-47BF-AE24-883F3652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0FC2-643E-4356-8C28-4480AF70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A7C-CECA-413F-AB6E-98E4043D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9829-935B-4FA0-A0C1-9DA405E0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4ACC-6A02-49BC-BDE7-56E31BBA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E4B2-9240-43DB-A66C-5005316D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E795-E4C6-4FBC-93A6-4865FBA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8A74-612E-4AC4-8F45-1863E979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9A9B-00B3-4FB8-8C7B-B6E840CE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1B26-10E5-48F2-81E1-905CFF16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3EAC-2338-4379-912E-EE0F8F8B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3E29-6639-434B-B0BA-805681F1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D05E-8569-418D-ABFA-F9696938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008-F1AA-4C3C-B0E8-65E3B76F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3C7B-012E-4F7C-8D0C-B8B5D013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21DA-A29A-4E03-9244-9065A7CB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095CF-A5E1-4112-8A1C-DCBBA5EB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3FE3C-0FF6-452E-AEC4-2699834B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9014-E5A3-4F5B-A4BA-CCC57D0E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8D872-B3C2-4275-BDBB-83402925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D22A7-0B25-493B-BB52-2020BF3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CE47-54B0-496E-AA13-48B2D965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ABFE-12D6-4839-93D5-4C0BC37F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23101-A9A3-41C2-A854-3EC5225D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B46-AED4-4050-99B3-5051C3CE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EEB4-8222-4899-A510-3BD535E6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0B39B-4A4F-400A-87D8-3A1DCF65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25126-AC64-4E5B-9C5B-71C0A731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E1BD4-52DD-4FE5-ABC2-707DDFED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CCCBD-82C8-462C-946B-B45C23CF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D1BA5-3DA9-4F50-AD79-09F327E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13A6-C571-46E7-A287-AF0C60D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4BCB-8ABF-49F9-842C-9444F14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59D0B-D9D5-4116-B7B5-711BC751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637E7-4BC0-4193-BE1E-910C8384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9E9-C28B-4EDE-8AA7-CA060EC6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2E042-9DBB-45D9-A6BC-4B6FD5C4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311E-B0AB-4B31-93F7-6A6E9D30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229C-4E9D-4F81-B171-31D45D5F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E0E0-CC54-4A9F-A750-8712342B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462D-C5B8-4DA5-94F2-6A9532E2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1A98-8DDE-419D-8842-72608FE7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1BB0-4769-49AA-A233-608D3528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89B79-825C-46CA-9AE3-CDC0B1C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29352-DF66-4165-AB4E-0B200A35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5EBF4-7A75-47B0-88D3-040F369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CB0-A877-4C63-B443-18BD8FBB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73C0A-0639-40E4-88BA-9EE1E5D8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F43A1-DA09-4DD2-B71D-5B8FF778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0A721-C837-4648-BF64-AF6230D0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DAE-D8EF-46E6-B9CD-3BE3730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25F-644F-4340-A8C2-3237BF77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3FD-7F86-4F2B-9FF3-F108064549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CEE2-1AEA-4FE3-AF8E-3A9368FA4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25BE-9734-4D11-84E3-A72B79C193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D1E4-688B-4E92-9814-FA312D3D1D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B408-A336-44A3-9C7E-7D3E5311ED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C52F-BBAC-4FBA-B321-4A07BDE1A2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Settling Utah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Four Immigration Era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47 Covered wagons pulled by ox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6-1860 Handcarts pulled by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1-1869 Down and back wagon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9 Steam locomo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Handcart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ade it to Utah saf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one that had serious problems was the Martin and Willie compan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0 of 980 people died of sta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Down and Back Wagon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ah Boys” went to Iowa to pick up immigr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exciting escape for the young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became suitors to the immigrating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5076720" y="2114640"/>
            <a:ext cx="3181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Features of Utah Settlement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ets in grid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streets with irrigation d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y blocks, 4 acres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enter of town was for public things, such as churches and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on the outski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tah Gover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urch and Civil leaders were the same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 often provide for the welfare of the poor, and for immigr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them work on public projects for their welf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reading across the W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gham Young called people to settle towns throughout the w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did it by thems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sen because of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the railroad came making it easier to spread across Ut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lroads in Ut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longer iso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inne, Utah brought a lot of other faiths to Ut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ng became possible with the railroad now in Ut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8:07:57Z</dcterms:created>
  <dc:creator>student</dc:creator>
  <dc:description/>
  <dc:language>en-US</dc:language>
  <cp:lastModifiedBy>student</cp:lastModifiedBy>
  <dcterms:modified xsi:type="dcterms:W3CDTF">2009-03-30T21:21:03Z</dcterms:modified>
  <cp:revision>5</cp:revision>
  <dc:subject/>
  <dc:title>Settling Utah</dc:title>
</cp:coreProperties>
</file>